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C62D8-4558-42DF-B455-4C43D50D1F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hods can also indicate what kinds of errors (exceptions) might arise when they’re called. We’ll cover these in a later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hods defined in interfaces don’t have a method body, again we’ll cover these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lso some additional types of modifiers (e.g. abstract, final) which we’ll also cover lat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s no equivalent of the C/C++ header file: just the .java file. One class per file (some exceptions, but outside the scope of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le name matching the class name is important. File names are case sensitive, just as class name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sses declare that they belong to a package. There’s no way for a package to be defin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ckages are a way of grouping relating classes together, to build a modular unit. The basic Java API has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 number of pages, e.g. java.lang for the basic, java.util for utility classes, java.net for networkin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a class wishes to refer to a class defined in another package, it must declare that it needs access to that package. This is done using the import keyword. It’s the responsibility of the JVM to find the relevant package, and classes on disk.</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ningful names are an important way to make your code understandable. While the later examples don’t always follow that recommendation, that’s just to save space on the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mel case is also recommended as it makes long identifier names much more readable. It’s called camel case because there are humps in the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there are naming conventions for method names and variables also (see later slid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mitive types are basic values. References types are structures (arrays, classes, objects, etc). A reference is as close as Java gets to a C pointer, but references are accessed by name and not by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Java programmer has no control over memory allocations, location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ly in an OO language everything would be an object of some form, and Java does have objects that represent the kinds of values that can be stored in primitive types. However reference types take up more memory so for efficiency, Java allows values to be stored in a primitive for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908FB-6B47-4F87-8D32-AC2D9C897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0182C-0D38-4D5E-A1D0-75A8E4EC9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8FAF8-FCD0-48CA-B91C-B8D45D161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389E3-5DE1-4568-9170-EA08BC464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06981-6B40-4A86-A0BF-110ED80AA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62CFD-3433-4AFF-A981-E3991E0DD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EC367-FEC2-44C9-8244-D57FCB88D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EDC22-6B91-439B-AC5A-6281940B7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D5920-6014-412E-9679-6422148F3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000C6-644B-47AF-B494-6965E7343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3E4FA-9145-4916-842A-67B285BF2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54EC9-1BE8-4D17-BE5D-42A46B43C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57963-1E44-4F9C-A494-D6C60AF2205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Java 2 Programming</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cture 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Syntax, Roboco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ethod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fine some behaviour of a cla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ethod declarations have four basic sections, and a method bod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isibility modifier (who can call the metho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turn type (what does it retur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thod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rameter list (what parameters does it accep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yntax Examples (Method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public void calculatePayrol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code goes he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private int addNumbers(int x, int 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code goes he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ethod Naming Convention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a method sets some value on an object</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public void setVatLevel(float vat);</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a method retrieves some value from the object</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public float getTotalPayroll();</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a method returns a boolean valu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public boolean isSwitch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lasse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Java class defined in each .java fi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name must match the name of the clas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wise there will be compilation erro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names start with an upper case letter</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iler will generate a .class file with same nam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s the </a:t>
            </a:r>
            <a:r>
              <a:rPr b="0" i="1" lang="en-US" sz="2800" spc="-1" strike="noStrike">
                <a:solidFill>
                  <a:srgbClr val="000000"/>
                </a:solidFill>
                <a:latin typeface="Times New Roman"/>
              </a:rPr>
              <a:t>bytecod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es defined using the </a:t>
            </a:r>
            <a:r>
              <a:rPr b="0" lang="en-US" sz="2800" spc="-1" strike="noStrike">
                <a:solidFill>
                  <a:srgbClr val="000000"/>
                </a:solidFill>
                <a:latin typeface="Courier New"/>
              </a:rPr>
              <a:t>class</a:t>
            </a:r>
            <a:r>
              <a:rPr b="0" lang="en-US" sz="3200" spc="-1" strike="noStrike">
                <a:solidFill>
                  <a:srgbClr val="000000"/>
                </a:solidFill>
                <a:latin typeface="Times New Roman"/>
              </a:rPr>
              <a:t> keywo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ckage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related classes togeth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class in a package must have a unique na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cate the package a class belongs to with the </a:t>
            </a:r>
            <a:r>
              <a:rPr b="0" lang="en-US" sz="2800" spc="-1" strike="noStrike">
                <a:solidFill>
                  <a:srgbClr val="000000"/>
                </a:solidFill>
                <a:latin typeface="Courier New"/>
              </a:rPr>
              <a:t>package</a:t>
            </a:r>
            <a:r>
              <a:rPr b="0" lang="en-US" sz="2800" spc="-1" strike="noStrike">
                <a:solidFill>
                  <a:srgbClr val="000000"/>
                </a:solidFill>
                <a:latin typeface="Times New Roman"/>
              </a:rPr>
              <a:t> keywor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mmended each class is put in a packag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in access to public classes in other packages using the </a:t>
            </a:r>
            <a:r>
              <a:rPr b="0" lang="en-US" sz="2800" spc="-1" strike="noStrike">
                <a:solidFill>
                  <a:srgbClr val="000000"/>
                </a:solidFill>
                <a:latin typeface="Courier New"/>
              </a:rPr>
              <a:t>import</a:t>
            </a:r>
            <a:r>
              <a:rPr b="0" lang="en-US" sz="2800" spc="-1" strike="noStrike">
                <a:solidFill>
                  <a:srgbClr val="000000"/>
                </a:solidFill>
                <a:latin typeface="Times New Roman"/>
              </a:rPr>
              <a:t> keywor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JVM needs to know where the classes are defined before you can use th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tomy of a Java Source File</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4495680" cy="4114800"/>
          </a:xfrm>
          <a:prstGeom prst="rect">
            <a:avLst/>
          </a:prstGeom>
          <a:noFill/>
          <a:ln w="0">
            <a:noFill/>
          </a:ln>
        </p:spPr>
        <p:txBody>
          <a:bodyPr lIns="90000" rIns="90000" tIns="46800" bIns="46800" anchor="t">
            <a:normAutofit fontScale="88000"/>
          </a:bodyPr>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ackage intro2java;</a:t>
            </a:r>
            <a:endParaRPr b="0" lang="en-US" sz="1600" spc="-1" strike="noStrike">
              <a:solidFill>
                <a:srgbClr val="000000"/>
              </a:solidFill>
              <a:latin typeface="Times New Roman"/>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import java.util.*;</a:t>
            </a:r>
            <a:endParaRPr b="0" lang="en-US" sz="1600" spc="-1" strike="noStrike">
              <a:solidFill>
                <a:srgbClr val="000000"/>
              </a:solidFill>
              <a:latin typeface="Times New Roman"/>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Times New Roman"/>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A description of the class</a:t>
            </a:r>
            <a:endParaRPr b="0" lang="en-US" sz="1600" spc="-1" strike="noStrike">
              <a:solidFill>
                <a:srgbClr val="000000"/>
              </a:solidFill>
              <a:latin typeface="Times New Roman"/>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Times New Roman"/>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public class MyFirstClass { </a:t>
            </a:r>
            <a:endParaRPr b="0" lang="en-US" sz="1600" spc="-1" strike="noStrike">
              <a:solidFill>
                <a:srgbClr val="000000"/>
              </a:solidFill>
              <a:latin typeface="Times New Roman"/>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tributes</a:t>
            </a:r>
            <a:endParaRPr b="0" lang="en-US" sz="1600" spc="-1" strike="noStrike">
              <a:solidFill>
                <a:srgbClr val="000000"/>
              </a:solidFill>
              <a:latin typeface="Times New Roman"/>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private boolean isSomething;</a:t>
            </a:r>
            <a:endParaRPr b="0" lang="en-US" sz="1600" spc="-1" strike="noStrike">
              <a:solidFill>
                <a:srgbClr val="000000"/>
              </a:solidFill>
              <a:latin typeface="Times New Roman"/>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private int aCounter;</a:t>
            </a:r>
            <a:endParaRPr b="0" lang="en-US" sz="1600" spc="-1" strike="noStrike">
              <a:solidFill>
                <a:srgbClr val="000000"/>
              </a:solidFill>
              <a:latin typeface="Times New Roman"/>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methods</a:t>
            </a:r>
            <a:endParaRPr b="0" lang="en-US" sz="1600" spc="-1" strike="noStrike">
              <a:solidFill>
                <a:srgbClr val="000000"/>
              </a:solidFill>
              <a:latin typeface="Times New Roman"/>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public void doSomething() </a:t>
            </a:r>
            <a:endParaRPr b="0" lang="en-US" sz="1600" spc="-1" strike="noStrike">
              <a:solidFill>
                <a:srgbClr val="000000"/>
              </a:solidFill>
              <a:latin typeface="Times New Roman"/>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Times New Roman"/>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code goes here</a:t>
            </a:r>
            <a:endParaRPr b="0" lang="en-US" sz="1600" spc="-1" strike="noStrike">
              <a:solidFill>
                <a:srgbClr val="000000"/>
              </a:solidFill>
              <a:latin typeface="Times New Roman"/>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a:t>
            </a:r>
            <a:endParaRPr b="0" lang="en-US" sz="1600" spc="-1" strike="noStrike">
              <a:solidFill>
                <a:srgbClr val="000000"/>
              </a:solidFill>
              <a:latin typeface="Times New Roman"/>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Times New Roman"/>
            </a:endParaRPr>
          </a:p>
        </p:txBody>
      </p:sp>
      <p:pic>
        <p:nvPicPr>
          <p:cNvPr id="78" name="MyFirstClass" descr=""/>
          <p:cNvPicPr/>
          <p:nvPr/>
        </p:nvPicPr>
        <p:blipFill>
          <a:blip r:embed="rId1"/>
          <a:stretch/>
        </p:blipFill>
        <p:spPr>
          <a:xfrm>
            <a:off x="6400800" y="1981080"/>
            <a:ext cx="1257480" cy="936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Sources of Error</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takes in naming</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ong case, illegal names</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name and source file name not the same</a:t>
            </a:r>
            <a:endParaRPr b="0" lang="en-US" sz="24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ing semi-colo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ing curly bracket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rect Loop checks</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p is too large/small, or occurs forever</a:t>
            </a:r>
            <a:endParaRPr b="0" lang="en-US" sz="24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equality</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ment with = (single equals sign)</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ison with == (two equals sig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Java Syntax</a:t>
            </a:r>
            <a:endParaRPr b="0" lang="en-US" sz="3200" spc="-1" strike="noStrike">
              <a:solidFill>
                <a:srgbClr val="000000"/>
              </a:solidFill>
              <a:latin typeface="Times New Roman"/>
            </a:endParaRPr>
          </a:p>
          <a:p>
            <a:pPr lvl="1" marL="743040" indent="-285840">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rPr>
              <a:t>Quick Overview</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oc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t work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ing Rob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tomy of a Robo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al Exerci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tomy of a Robot</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package </a:t>
            </a:r>
            <a:r>
              <a:rPr b="0" i="1" lang="en-GB" sz="2000" spc="-1" strike="noStrike">
                <a:solidFill>
                  <a:srgbClr val="000000"/>
                </a:solidFill>
                <a:latin typeface="Courier New"/>
              </a:rPr>
              <a:t>yourname</a:t>
            </a:r>
            <a:r>
              <a:rPr b="0" lang="en-GB" sz="2000" spc="-1" strike="noStrike">
                <a:solidFill>
                  <a:srgbClr val="000000"/>
                </a:solidFill>
                <a:latin typeface="Courier New"/>
              </a:rPr>
              <a:t>;</a:t>
            </a: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import robocode.*;</a:t>
            </a: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Description of Robot</a:t>
            </a: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public class </a:t>
            </a:r>
            <a:r>
              <a:rPr b="0" i="1" lang="en-GB" sz="2000" spc="-1" strike="noStrike">
                <a:solidFill>
                  <a:srgbClr val="000000"/>
                </a:solidFill>
                <a:latin typeface="Courier New"/>
              </a:rPr>
              <a:t>MyRobot</a:t>
            </a:r>
            <a:r>
              <a:rPr b="0" lang="en-GB" sz="2000" spc="-1" strike="noStrike">
                <a:solidFill>
                  <a:srgbClr val="000000"/>
                </a:solidFill>
                <a:latin typeface="Courier New"/>
              </a:rPr>
              <a:t> extends Robot</a:t>
            </a: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Description of run method</a:t>
            </a: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public void run() {</a:t>
            </a: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the robots behaviour</a:t>
            </a: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Java Syntax</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asic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lasses, Packag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obocod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it work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riting Robo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atomy of a Robo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actical Exerci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ing</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Java syntax is case sensiti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alid Java nam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ist of letters, numbers, underscore, and dolla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mes can only start with letter or undersco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a:t>
            </a:r>
            <a:r>
              <a:rPr b="0" lang="en-GB" sz="2400" spc="-1" strike="noStrike">
                <a:solidFill>
                  <a:srgbClr val="000000"/>
                </a:solidFill>
                <a:latin typeface="Courier New"/>
              </a:rPr>
              <a:t>firstAttribute</a:t>
            </a:r>
            <a:r>
              <a:rPr b="0" lang="en-GB" sz="2400" spc="-1" strike="noStrike">
                <a:solidFill>
                  <a:srgbClr val="000000"/>
                </a:solidFill>
                <a:latin typeface="Times New Roman"/>
              </a:rPr>
              <a:t> but not </a:t>
            </a:r>
            <a:r>
              <a:rPr b="0" lang="en-GB" sz="2400" spc="-1" strike="noStrike">
                <a:solidFill>
                  <a:srgbClr val="000000"/>
                </a:solidFill>
                <a:latin typeface="Courier New"/>
              </a:rPr>
              <a:t>1stAttribu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Camel case” conven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encourages long, explanatory nam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rt with a lower case letter, with words capitalis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a:t>
            </a:r>
            <a:r>
              <a:rPr b="0" lang="en-GB" sz="2400" spc="-1" strike="noStrike">
                <a:solidFill>
                  <a:srgbClr val="000000"/>
                </a:solidFill>
                <a:latin typeface="Courier New"/>
              </a:rPr>
              <a:t>thisIsCamelCase</a:t>
            </a:r>
            <a:r>
              <a:rPr b="0" lang="en-GB" sz="2400" spc="-1" strike="noStrike">
                <a:solidFill>
                  <a:srgbClr val="000000"/>
                </a:solidFill>
                <a:latin typeface="Times New Roman"/>
              </a:rPr>
              <a:t>, </a:t>
            </a:r>
            <a:r>
              <a:rPr b="0" lang="en-GB" sz="2400" spc="-1" strike="noStrike">
                <a:solidFill>
                  <a:srgbClr val="000000"/>
                </a:solidFill>
                <a:latin typeface="Courier New"/>
              </a:rPr>
              <a:t>andSoIsThisAsWell</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Java Typ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ava has two basic typ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imitive typ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ence Types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imitive typ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gers, floating point numbers, characters,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 to actual valu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ence typ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rrays, Classes, Objects,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 to memory locations (by name, not location)</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609480" y="1981080"/>
          <a:ext cx="7772400" cy="4253040"/>
        </p:xfrm>
        <a:graphic>
          <a:graphicData uri="http://schemas.openxmlformats.org/drawingml/2006/table">
            <a:tbl>
              <a:tblPr/>
              <a:tblGrid>
                <a:gridCol w="2590920"/>
                <a:gridCol w="2590920"/>
                <a:gridCol w="2590560"/>
              </a:tblGrid>
              <a:tr h="45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yp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scripti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z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oolean (</a:t>
                      </a:r>
                      <a:r>
                        <a:rPr b="0" lang="en-GB" sz="1800" spc="-1" strike="noStrike">
                          <a:solidFill>
                            <a:srgbClr val="000000"/>
                          </a:solidFill>
                          <a:latin typeface="Courier New"/>
                        </a:rPr>
                        <a:t>boolean</a:t>
                      </a: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ue/false val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bi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yte (</a:t>
                      </a:r>
                      <a:r>
                        <a:rPr b="0" lang="en-GB" sz="1800" spc="-1" strike="noStrike">
                          <a:solidFill>
                            <a:srgbClr val="000000"/>
                          </a:solidFill>
                          <a:latin typeface="Courier New"/>
                        </a:rPr>
                        <a:t>byte</a:t>
                      </a: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yte-length integ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byt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hort (</a:t>
                      </a:r>
                      <a:r>
                        <a:rPr b="0" lang="en-GB" sz="1800" spc="-1" strike="noStrike">
                          <a:solidFill>
                            <a:srgbClr val="000000"/>
                          </a:solidFill>
                          <a:latin typeface="Courier New"/>
                        </a:rPr>
                        <a:t>short</a:t>
                      </a: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hort integ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teger (</a:t>
                      </a:r>
                      <a:r>
                        <a:rPr b="0" lang="en-GB" sz="1800" spc="-1" strike="noStrike">
                          <a:solidFill>
                            <a:srgbClr val="000000"/>
                          </a:solidFill>
                          <a:latin typeface="Courier New"/>
                        </a:rPr>
                        <a:t>int</a:t>
                      </a: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teg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ong (</a:t>
                      </a:r>
                      <a:r>
                        <a:rPr b="0" lang="en-GB" sz="1800" spc="-1" strike="noStrike">
                          <a:solidFill>
                            <a:srgbClr val="000000"/>
                          </a:solidFill>
                          <a:latin typeface="Courier New"/>
                        </a:rPr>
                        <a:t>long</a:t>
                      </a: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ong Integ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loat (</a:t>
                      </a:r>
                      <a:r>
                        <a:rPr b="0" lang="en-GB" sz="1800" spc="-1" strike="noStrike">
                          <a:solidFill>
                            <a:srgbClr val="000000"/>
                          </a:solidFill>
                          <a:latin typeface="Courier New"/>
                        </a:rPr>
                        <a:t>float</a:t>
                      </a: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ngle precision floating point numb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ouble (</a:t>
                      </a:r>
                      <a:r>
                        <a:rPr b="0" lang="en-GB" sz="1800" spc="-1" strike="noStrike">
                          <a:solidFill>
                            <a:srgbClr val="000000"/>
                          </a:solidFill>
                          <a:latin typeface="Courier New"/>
                        </a:rPr>
                        <a:t>double</a:t>
                      </a: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ouble precision flo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har (</a:t>
                      </a:r>
                      <a:r>
                        <a:rPr b="0" lang="en-GB" sz="1800" spc="-1" strike="noStrike">
                          <a:solidFill>
                            <a:srgbClr val="000000"/>
                          </a:solidFill>
                          <a:latin typeface="Courier New"/>
                        </a:rPr>
                        <a:t>char</a:t>
                      </a:r>
                      <a:r>
                        <a:rPr b="0" lang="en-GB"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ngle charact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imitive Typ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yntax Examples (Variable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int anInteg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Boolean isSwitchO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riables can be initialised when they are declar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Int anInteger = 1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Boolean isSwitchOn = tr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yntax Examples (if)</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if (x == y)</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executes if true</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if (somethingIsTrue())</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oSomething();</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else</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oSomethingElse();</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for)</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int x=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for (int i=1; i&lt;=10; i++)</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code to repeat ten tim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x = x + i;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while)</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int x=0;</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while (x &lt; 10)</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oSomethin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x++;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loop forever</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while (tru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0T06:04:31Z</dcterms:created>
  <dc:creator>Leigh Dodds</dc:creator>
  <dc:description/>
  <dc:language>en-US</dc:language>
  <cp:lastModifiedBy>Leigh Dodds</cp:lastModifiedBy>
  <dcterms:modified xsi:type="dcterms:W3CDTF">2003-02-12T20:32:37Z</dcterms:modified>
  <cp:revision>102</cp:revision>
  <dc:subject/>
  <dc:title>Introduction to Java 2 Programming</dc:title>
</cp:coreProperties>
</file>